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5FC-BDD1-4890-9488-3F8BD527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562-6701-4C20-825B-4A81CF72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011-FF12-4631-8955-13C15362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A64-174E-4F5D-84B6-5CE6441B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7194-A175-4338-BEF7-2452BD67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3F3C-23DA-4415-9DBE-A4BCD964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A566-AFA4-41BE-ADAE-B8B2F821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4E82-CFB5-405F-A1B4-883F105C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0DC6-8A1E-4456-81C9-344C8E16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9DE8-8832-4584-9C54-812131D0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FDD7-04A8-4AF6-9753-DC6EBFBB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870-69E6-492B-961F-FC9760C8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5AD9-75FE-4524-89CD-504C70B5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541D-B0E1-4B88-B7F0-C4507164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7389-1645-4B12-A442-C3DD348C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358F-E957-4008-8F40-A8DEC551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99B2-6B7A-4DED-8D32-85CD3DBF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B18-F91B-4704-8A8C-2146B1C3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C45-B8CC-4E59-9BAA-7FD3A18F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1F1-9FA5-4892-B79B-9B6331B8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6F7-D890-4643-8FDE-B5CEC4F7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1E1-7E36-4165-B4CC-F6200C05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F8A-7B71-4D69-AE03-E8B6BC04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7FE-5854-47A4-9BA8-D5DCAD19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8ED0-D750-4119-B7CE-973200BD4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AD57-83DE-4EB9-A55E-EFE1E8EC8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20574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hings you don’t see everyd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955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3187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orsche" descr=""/>
          <p:cNvPicPr/>
          <p:nvPr/>
        </p:nvPicPr>
        <p:blipFill>
          <a:blip r:embed="rId1"/>
          <a:stretch/>
        </p:blipFill>
        <p:spPr>
          <a:xfrm>
            <a:off x="0" y="282600"/>
            <a:ext cx="9144000" cy="62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879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3540" descr=""/>
          <p:cNvPicPr/>
          <p:nvPr/>
        </p:nvPicPr>
        <p:blipFill>
          <a:blip r:embed="rId1"/>
          <a:stretch/>
        </p:blipFill>
        <p:spPr>
          <a:xfrm>
            <a:off x="2103480" y="0"/>
            <a:ext cx="493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4711" descr=""/>
          <p:cNvPicPr/>
          <p:nvPr/>
        </p:nvPicPr>
        <p:blipFill>
          <a:blip r:embed="rId1"/>
          <a:stretch/>
        </p:blipFill>
        <p:spPr>
          <a:xfrm>
            <a:off x="1878120" y="0"/>
            <a:ext cx="5387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4787" descr="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4814" descr=""/>
          <p:cNvPicPr/>
          <p:nvPr/>
        </p:nvPicPr>
        <p:blipFill>
          <a:blip r:embed="rId1"/>
          <a:stretch/>
        </p:blipFill>
        <p:spPr>
          <a:xfrm>
            <a:off x="2514600" y="190440"/>
            <a:ext cx="4332240" cy="66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BMW%20Cab" descr=""/>
          <p:cNvPicPr/>
          <p:nvPr/>
        </p:nvPicPr>
        <p:blipFill>
          <a:blip r:embed="rId1"/>
          <a:stretch/>
        </p:blipFill>
        <p:spPr>
          <a:xfrm>
            <a:off x="990720" y="-14400"/>
            <a:ext cx="7162560" cy="68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werbung3" descr=""/>
          <p:cNvPicPr/>
          <p:nvPr/>
        </p:nvPicPr>
        <p:blipFill>
          <a:blip r:embed="rId1"/>
          <a:stretch/>
        </p:blipFill>
        <p:spPr>
          <a:xfrm>
            <a:off x="1941480" y="0"/>
            <a:ext cx="5261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oi_pino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oldat" descr=""/>
          <p:cNvPicPr/>
          <p:nvPr/>
        </p:nvPicPr>
        <p:blipFill>
          <a:blip r:embed="rId1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199120" y="397980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ignet Roundhand"/>
              </a:rPr>
              <a:t>Have a good da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920" y="5070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driving-school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emergency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hairs" descr=""/>
          <p:cNvPicPr/>
          <p:nvPr/>
        </p:nvPicPr>
        <p:blipFill>
          <a:blip r:embed="rId1"/>
          <a:stretch/>
        </p:blipFill>
        <p:spPr>
          <a:xfrm>
            <a:off x="0" y="447840"/>
            <a:ext cx="9144000" cy="59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essna" descr="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delt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3802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c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20:40:37Z</dcterms:created>
  <dc:creator>Antonio_Moreno</dc:creator>
  <dc:description/>
  <dc:language>en-US</dc:language>
  <cp:lastModifiedBy>S002472</cp:lastModifiedBy>
  <dcterms:modified xsi:type="dcterms:W3CDTF">2001-08-17T11:37:29Z</dcterms:modified>
  <cp:revision>68</cp:revision>
  <dc:subject/>
  <dc:title>Sin título de diapositiva</dc:title>
</cp:coreProperties>
</file>