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C95-2D09-47BE-BE5F-2FFE9534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D2C-811A-43C9-A796-97C3D546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FFC-D0B8-49FF-8F92-90B07C55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E06-1539-4C16-B836-67229675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98FC-07F8-4CD6-B83C-14C8F9CB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0C89-613B-43AC-B75B-650BE76F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04E4-C5CE-4916-872C-22113A41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FC8C-AF51-447E-8FC2-C0925897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50E9-E351-4CFA-A8B6-2B306930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2F22-8D80-417A-923A-1DDE31A2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329E-BD29-4750-A4E6-764F5DD2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DF9-C6F2-4114-999B-FA830E24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C9A3-F426-4DC1-90BB-C072DE15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5B7B-41E8-41BE-B119-2F611060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4167-68BB-4089-B525-4EF151BF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4CD0-27CD-4DA5-A722-D671B9DA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EC4D-7821-43B2-A29A-FCBD1EC1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709-4439-404F-9208-3C5CFF37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1EC-4818-4132-B599-EF8DF45C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5A5-361B-4A14-B527-A27008EA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934-0EA8-42BE-9100-75F3D3AF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29C-F3E7-42E5-8356-2883B1B4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D94-EE9C-4808-A23C-5255A40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8F8-267A-4B1C-B960-072A6DF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0893-9C9A-4B9F-816F-606D2C5D9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5E5B-8B08-4E99-95C4-A95CD662C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20574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ings you don’t see everyd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955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3187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orsche" descr=""/>
          <p:cNvPicPr/>
          <p:nvPr/>
        </p:nvPicPr>
        <p:blipFill>
          <a:blip r:embed="rId1"/>
          <a:stretch/>
        </p:blipFill>
        <p:spPr>
          <a:xfrm>
            <a:off x="0" y="282600"/>
            <a:ext cx="9144000" cy="62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879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3540" descr=""/>
          <p:cNvPicPr/>
          <p:nvPr/>
        </p:nvPicPr>
        <p:blipFill>
          <a:blip r:embed="rId1"/>
          <a:stretch/>
        </p:blipFill>
        <p:spPr>
          <a:xfrm>
            <a:off x="2103480" y="0"/>
            <a:ext cx="493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4711" descr=""/>
          <p:cNvPicPr/>
          <p:nvPr/>
        </p:nvPicPr>
        <p:blipFill>
          <a:blip r:embed="rId1"/>
          <a:stretch/>
        </p:blipFill>
        <p:spPr>
          <a:xfrm>
            <a:off x="1878120" y="0"/>
            <a:ext cx="538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4787" descr=""/>
          <p:cNvPicPr/>
          <p:nvPr/>
        </p:nvPicPr>
        <p:blipFill>
          <a:blip r:embed="rId1"/>
          <a:stretch/>
        </p:blipFill>
        <p:spPr>
          <a:xfrm>
            <a:off x="0" y="4539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4814" descr=""/>
          <p:cNvPicPr/>
          <p:nvPr/>
        </p:nvPicPr>
        <p:blipFill>
          <a:blip r:embed="rId1"/>
          <a:stretch/>
        </p:blipFill>
        <p:spPr>
          <a:xfrm>
            <a:off x="2514600" y="190440"/>
            <a:ext cx="4332240" cy="66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MW%20Cab" descr=""/>
          <p:cNvPicPr/>
          <p:nvPr/>
        </p:nvPicPr>
        <p:blipFill>
          <a:blip r:embed="rId1"/>
          <a:stretch/>
        </p:blipFill>
        <p:spPr>
          <a:xfrm>
            <a:off x="990720" y="-14400"/>
            <a:ext cx="7162560" cy="68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werbung3" descr=""/>
          <p:cNvPicPr/>
          <p:nvPr/>
        </p:nvPicPr>
        <p:blipFill>
          <a:blip r:embed="rId1"/>
          <a:stretch/>
        </p:blipFill>
        <p:spPr>
          <a:xfrm>
            <a:off x="194148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oi_pino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oldat" descr=""/>
          <p:cNvPicPr/>
          <p:nvPr/>
        </p:nvPicPr>
        <p:blipFill>
          <a:blip r:embed="rId1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199120" y="397980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ignet Roundhand"/>
              </a:rPr>
              <a:t>Have a good da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920" y="5070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driving-school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emergency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hairs" descr=""/>
          <p:cNvPicPr/>
          <p:nvPr/>
        </p:nvPicPr>
        <p:blipFill>
          <a:blip r:embed="rId1"/>
          <a:stretch/>
        </p:blipFill>
        <p:spPr>
          <a:xfrm>
            <a:off x="0" y="447840"/>
            <a:ext cx="9144000" cy="59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essna" descr=""/>
          <p:cNvPicPr/>
          <p:nvPr/>
        </p:nvPicPr>
        <p:blipFill>
          <a:blip r:embed="rId1"/>
          <a:stretch/>
        </p:blipFill>
        <p:spPr>
          <a:xfrm>
            <a:off x="0" y="390600"/>
            <a:ext cx="914400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delt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3802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20:40:37Z</dcterms:created>
  <dc:creator>Antonio_Moreno</dc:creator>
  <dc:description/>
  <dc:language>en-US</dc:language>
  <cp:lastModifiedBy>S002472</cp:lastModifiedBy>
  <dcterms:modified xsi:type="dcterms:W3CDTF">2001-08-17T11:37:29Z</dcterms:modified>
  <cp:revision>68</cp:revision>
  <dc:subject/>
  <dc:title>Sin título de diapositiva</dc:title>
</cp:coreProperties>
</file>