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577-1D95-4EBA-8C16-CEA1D2CB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42B-AD51-4C2A-9938-C7AF681C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DCD-C295-4628-9868-DEC71582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680-5AFE-4224-9977-D2441B70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9D1-ED57-482E-8E15-63CDF37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71E-F5AD-46C5-9BC0-F86BA9F3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271-D743-42A4-8110-D964A2A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1AE-A526-4213-99BD-C5B249DB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AED-6460-4E24-9F96-2D96E0D3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759-6296-434C-A484-DF8D969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9F3-4B82-465C-B3DD-E9DD337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5BF-C02D-485C-8C4D-E7F2EAB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1717-BC35-460D-96E8-46C447E9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itz"/>
              </a:rPr>
              <a:t>Transformations of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ations/Com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; Absolute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8276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73880" y="1600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382760" y="3938760"/>
            <a:ext cx="218736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73880" y="3938760"/>
            <a:ext cx="2187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97160" y="933480"/>
            <a:ext cx="6349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1:17:25Z</dcterms:created>
  <dc:creator> SVSU</dc:creator>
  <dc:description/>
  <dc:language>en-US</dc:language>
  <cp:lastModifiedBy> SVSU</cp:lastModifiedBy>
  <dcterms:modified xsi:type="dcterms:W3CDTF">2004-03-23T02:15:19Z</dcterms:modified>
  <cp:revision>5</cp:revision>
  <dc:subject/>
  <dc:title>Transformations of Graphs</dc:title>
</cp:coreProperties>
</file>