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C2A-B705-415D-AE00-35CA4940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C24A-A8B1-459D-976D-3ECA5281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9F44-0C91-40C2-BD19-052F5B7C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137-FA4E-469F-A00C-BF89026B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848-E047-42EA-A49C-3A10EDC4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F6F-EE5D-480D-9556-E8EA5FF4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AD7-DCB8-4471-AE12-0CAC1235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597-6E0F-4D15-AE8E-AA423C40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B9D-5FBA-49C8-816C-6ABC877E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481-4F24-4336-B797-43C06ADD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756-A382-4193-9A55-5B1099DB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D80-EA08-4E9C-B06E-9CB030EB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7B9A-A88D-4672-B6EF-67B71E195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itz"/>
              </a:rPr>
              <a:t>Transformations of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82760" y="1600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73880" y="1600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82760" y="393876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573880" y="3938760"/>
            <a:ext cx="2187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lations/Com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82760" y="1600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573880" y="1600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382760" y="393876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573880" y="3938760"/>
            <a:ext cx="2187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s; Absolute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82760" y="1600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73880" y="1600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382760" y="393876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73880" y="3938760"/>
            <a:ext cx="2187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97160" y="933480"/>
            <a:ext cx="63496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01:17:25Z</dcterms:created>
  <dc:creator> SVSU</dc:creator>
  <dc:description/>
  <dc:language>en-US</dc:language>
  <cp:lastModifiedBy> SVSU</cp:lastModifiedBy>
  <dcterms:modified xsi:type="dcterms:W3CDTF">2004-03-23T02:15:19Z</dcterms:modified>
  <cp:revision>5</cp:revision>
  <dc:subject/>
  <dc:title>Transformations of Graphs</dc:title>
</cp:coreProperties>
</file>